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A8A-6D78-4A09-91CB-A03D49F0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7A4-255C-42B5-BE32-5BADD1B5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E25-B7F6-4697-97C5-082784D7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C4B-2724-4F14-8135-C7A6AE6F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D6C-FDE4-4FFD-A6F4-3DD15F16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BE4-211C-4422-BEEE-A6AA7FA5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7C2-98E5-4E34-8B39-D94347AA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0AE-A4E7-4EC9-BF15-BBCF7717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2E7-2284-416B-9C37-1AE04CF1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959-D319-402B-81A1-C8E4BF5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863-624C-4969-A533-6B84203C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556-15DC-4E23-950E-1F754A9A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0C3-57F9-4514-A0B1-A45FEC4B6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23880" y="1066680"/>
            <a:ext cx="16002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or sum all fig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ular Callout 6"/>
          <p:cNvSpPr/>
          <p:nvPr/>
        </p:nvSpPr>
        <p:spPr>
          <a:xfrm>
            <a:off x="304920" y="228600"/>
            <a:ext cx="4267080" cy="612720"/>
          </a:xfrm>
          <a:prstGeom prst="wedgeRectCallout">
            <a:avLst>
              <a:gd name="adj1" fmla="val -20833"/>
              <a:gd name="adj2" fmla="val 51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to find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ight Arrow 9"/>
          <p:cNvSpPr/>
          <p:nvPr/>
        </p:nvSpPr>
        <p:spPr>
          <a:xfrm>
            <a:off x="152280" y="1219320"/>
            <a:ext cx="1219320" cy="685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ight Arrow 10"/>
          <p:cNvSpPr/>
          <p:nvPr/>
        </p:nvSpPr>
        <p:spPr>
          <a:xfrm>
            <a:off x="152280" y="2590920"/>
            <a:ext cx="1219320" cy="685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523880" y="2514600"/>
            <a:ext cx="16002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number of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qual 12"/>
          <p:cNvSpPr/>
          <p:nvPr/>
        </p:nvSpPr>
        <p:spPr>
          <a:xfrm>
            <a:off x="3200400" y="121932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qual 13"/>
          <p:cNvSpPr/>
          <p:nvPr/>
        </p:nvSpPr>
        <p:spPr>
          <a:xfrm>
            <a:off x="3276720" y="259092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ular Callout 14"/>
          <p:cNvSpPr/>
          <p:nvPr/>
        </p:nvSpPr>
        <p:spPr>
          <a:xfrm>
            <a:off x="5029200" y="304920"/>
            <a:ext cx="3581280" cy="533160"/>
          </a:xfrm>
          <a:prstGeom prst="wedgeRectCallout">
            <a:avLst>
              <a:gd name="adj1" fmla="val -20833"/>
              <a:gd name="adj2" fmla="val 51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10, 20, 30,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1523880" y="4038480"/>
            <a:ext cx="1600200" cy="1067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Step 1 by 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16"/>
          <p:cNvSpPr/>
          <p:nvPr/>
        </p:nvSpPr>
        <p:spPr>
          <a:xfrm>
            <a:off x="152280" y="4191120"/>
            <a:ext cx="1219320" cy="685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qual 17"/>
          <p:cNvSpPr/>
          <p:nvPr/>
        </p:nvSpPr>
        <p:spPr>
          <a:xfrm>
            <a:off x="3276720" y="396252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Alternate Process 20"/>
          <p:cNvSpPr/>
          <p:nvPr/>
        </p:nvSpPr>
        <p:spPr>
          <a:xfrm>
            <a:off x="4191120" y="1371600"/>
            <a:ext cx="1752480" cy="61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ular Callout 22"/>
          <p:cNvSpPr/>
          <p:nvPr/>
        </p:nvSpPr>
        <p:spPr>
          <a:xfrm>
            <a:off x="6095880" y="1447920"/>
            <a:ext cx="2895840" cy="533160"/>
          </a:xfrm>
          <a:prstGeom prst="wedgeRectCallout">
            <a:avLst>
              <a:gd name="adj1" fmla="val -20833"/>
              <a:gd name="adj2" fmla="val 51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+ 20 + 30 + 40 =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owchart: Alternate Process 23"/>
          <p:cNvSpPr/>
          <p:nvPr/>
        </p:nvSpPr>
        <p:spPr>
          <a:xfrm>
            <a:off x="4267080" y="2743200"/>
            <a:ext cx="1752840" cy="61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ular Callout 24"/>
          <p:cNvSpPr/>
          <p:nvPr/>
        </p:nvSpPr>
        <p:spPr>
          <a:xfrm>
            <a:off x="7086600" y="2819520"/>
            <a:ext cx="838080" cy="533160"/>
          </a:xfrm>
          <a:prstGeom prst="wedgeRectCallout">
            <a:avLst>
              <a:gd name="adj1" fmla="val -20833"/>
              <a:gd name="adj2" fmla="val 51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Alternate Process 25"/>
          <p:cNvSpPr/>
          <p:nvPr/>
        </p:nvSpPr>
        <p:spPr>
          <a:xfrm>
            <a:off x="6629400" y="4114800"/>
            <a:ext cx="1752480" cy="61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÷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Alternate Process 21"/>
          <p:cNvSpPr/>
          <p:nvPr/>
        </p:nvSpPr>
        <p:spPr>
          <a:xfrm>
            <a:off x="4267080" y="4114800"/>
            <a:ext cx="1752840" cy="61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1371600" y="5257800"/>
            <a:ext cx="7086600" cy="1447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 instructions for finding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vera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Find the grand total by adding all numbers given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Count the numbers gi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Divide the grand total by the 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8160" y="2286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to finding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edian is the middle number of an ordered set of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here is the the MEDIAN of a highwa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midd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981080"/>
            <a:ext cx="434340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t of numb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457520" y="2933640"/>
            <a:ext cx="685800" cy="121896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3200040" y="2971800"/>
            <a:ext cx="685800" cy="1143000"/>
          </a:xfrm>
          <a:prstGeom prst="flowChartMerg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895480"/>
            <a:ext cx="213372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mallest to lar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19720"/>
            <a:ext cx="22860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ind the middl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your ME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382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410080"/>
            <a:ext cx="312408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Set: { 3, 1, 2, 5, 4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1, 2, 3, 4, 5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2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 1, 2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4, 5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dian i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3200400"/>
            <a:ext cx="213372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mallest to lar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4648320"/>
            <a:ext cx="2514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ind the middle 2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5791320"/>
            <a:ext cx="3429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n average of these 2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your ME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1:09:10Z</dcterms:created>
  <dc:creator>Information Systems</dc:creator>
  <dc:description/>
  <dc:language>en-US</dc:language>
  <cp:lastModifiedBy>Monkey D</cp:lastModifiedBy>
  <dcterms:modified xsi:type="dcterms:W3CDTF">2008-09-18T11:25:10Z</dcterms:modified>
  <cp:revision>17</cp:revision>
  <dc:subject/>
  <dc:title>Slide 1</dc:title>
</cp:coreProperties>
</file>